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146-C74E-4CDF-92A5-0DC28A90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6B3-D7BB-46D2-955C-6344266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CDF-B84E-4F3B-A1A2-FF337E4D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FBC-08A2-45AD-A27B-E8D54FDF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0A4-32DA-4A6A-A5AE-34A8CC4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1DB-4887-4BDB-ADB0-2958B8E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A4D-EDA7-4726-97A6-6B17EFF1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DDE-D7F8-4C72-AE87-621586B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62C-6B6D-48DF-9A92-45FBCE52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DC6-1174-43D6-B7DA-DF424A3F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4A7-8567-4EB1-A7E6-BF48AFA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A4F-68BD-463B-8B0C-2694098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1813-4BEC-4149-A3A3-1144731C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76280"/>
            <a:ext cx="8496000" cy="5854680"/>
          </a:xfrm>
          <a:prstGeom prst="rect">
            <a:avLst/>
          </a:prstGeom>
          <a:solidFill>
            <a:srgbClr val="0000a4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имам дом в небеса във новия град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имам дом в неб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 новия град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имам дом в небес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ъв новия град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Дом широк и н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907920"/>
            <a:ext cx="7164360" cy="5031720"/>
          </a:xfrm>
          <a:prstGeom prst="rect">
            <a:avLst/>
          </a:prstGeom>
          <a:solidFill>
            <a:srgbClr val="0000a4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ярвам в Те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 очаквам Теб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обичам Теб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съм Твоя с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620640"/>
            <a:ext cx="7200720" cy="5854680"/>
          </a:xfrm>
          <a:prstGeom prst="rect">
            <a:avLst/>
          </a:prstGeom>
          <a:solidFill>
            <a:srgbClr val="0000a4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приех Ису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 моето сърц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приех Исус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 моето сърц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приех Ису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 моето сърц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Той ще ме възлюб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995400"/>
            <a:ext cx="7417080" cy="5031720"/>
          </a:xfrm>
          <a:prstGeom prst="rect">
            <a:avLst/>
          </a:prstGeom>
          <a:solidFill>
            <a:srgbClr val="0000a4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ярвам в Те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 очаквам Те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обичам Теб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съм Твоя с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88800"/>
            <a:ext cx="8783640" cy="5854680"/>
          </a:xfrm>
          <a:prstGeom prst="rect">
            <a:avLst/>
          </a:prstGeom>
          <a:gradFill rotWithShape="0">
            <a:gsLst>
              <a:gs pos="0">
                <a:srgbClr val="0000a4">
                  <a:alpha val="60392"/>
                </a:srgbClr>
              </a:gs>
              <a:gs pos="100000">
                <a:srgbClr val="000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имам рад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от Христос в моя живот, аз имам рад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от Христос в моя живот, аз имам радост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от Христос в моя живо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Той ми дава мир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18900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9120" y="208080"/>
            <a:ext cx="51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995400"/>
            <a:ext cx="7417080" cy="5031720"/>
          </a:xfrm>
          <a:prstGeom prst="rect">
            <a:avLst/>
          </a:prstGeom>
          <a:solidFill>
            <a:srgbClr val="0000a4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вярвам в Те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Господи, очаквам Те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Господи, обичам Теб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  <a:ea typeface="Arial"/>
              </a:rPr>
              <a:t>аз съм Твоя с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23:55Z</dcterms:created>
  <dc:creator>TrifonTrifonow</dc:creator>
  <dc:description/>
  <dc:language>en-US</dc:language>
  <cp:lastModifiedBy>TrifonTrifonow</cp:lastModifiedBy>
  <dcterms:modified xsi:type="dcterms:W3CDTF">2005-12-15T20:24:33Z</dcterms:modified>
  <cp:revision>1</cp:revision>
  <dc:subject/>
  <dc:title>Slide 1</dc:title>
</cp:coreProperties>
</file>